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7D9-35D3-42EB-9915-720D1D8C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863-5C0F-43CB-92BA-F4E29A23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28A-CC50-4128-802D-4B78D316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32E-E245-4BA4-A614-753AAD28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0002-AC3F-4033-9952-78E10E00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564D-703E-41C5-A9F0-5807003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DC0E-9B5D-43AE-A026-D1B9672F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433C-EFAB-40EA-848F-3F0EC64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529E7-FF78-4377-A28C-60D76893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7893-F0D9-477C-99C2-A96B894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EF17C-DA55-4066-B656-A6F4ABD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F85-217C-49CF-8FAA-997F0654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B2413-DC70-4418-9A26-E02E252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2EE4-59CE-427B-991E-89CB6C3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2E2F-FA6B-457E-8B55-9C45B37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B4F9-9DB5-413D-A1CB-87FFF06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7C844-8E16-4710-86C1-A92BE2B0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ED8-E4AD-46D5-B66B-EB00630C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FE8-CDA6-4CF2-A463-AA39C0C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9EC-8071-448C-ADC4-F40F3F2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88E-9892-4569-8D06-479BC7D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19D-EAE2-4916-B821-1694B32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2F8-0A6A-41CE-A257-D256D23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31A-8D2A-43E9-B744-0BA4EF9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64DA-7FDD-42C0-A9E3-8CB890103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72F-76FE-4781-8F66-76F73665F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www.turizm.ru/germany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76520" y="685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Palace Script MT"/>
              </a:rPr>
              <a:t>Крупнейшие города Герма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4876920"/>
            <a:ext cx="14479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Куклина Н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КГ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2 кур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г.Сыктывк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i-main-pic" descr="Картинка 7 из 13826"/>
          <p:cNvPicPr/>
          <p:nvPr/>
        </p:nvPicPr>
        <p:blipFill>
          <a:blip r:embed="rId1"/>
          <a:stretch/>
        </p:blipFill>
        <p:spPr>
          <a:xfrm>
            <a:off x="2832120" y="1981080"/>
            <a:ext cx="3394080" cy="44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апы и сроки проведения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Всего 6 ча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-2 часа: поиск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часа : создание про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час : защита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Информационные ресур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ru.wikipedia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turizm.ru/german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ongermany.ru/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-main-pic" descr="Картинка 38 из 81398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1360" y="184320"/>
            <a:ext cx="84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Какой город изображен на карти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5105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Учебные предметы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мецкий язы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Географ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учащиеся 7-8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main-pic" descr="Картинка 194 из 13826"/>
          <p:cNvPicPr/>
          <p:nvPr/>
        </p:nvPicPr>
        <p:blipFill>
          <a:blip r:embed="rId1"/>
          <a:stretch/>
        </p:blipFill>
        <p:spPr>
          <a:xfrm>
            <a:off x="3581280" y="1447920"/>
            <a:ext cx="243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-main-pic" descr="Картинка 14 из 5014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2960" y="336600"/>
            <a:ext cx="580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457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Основополагающий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828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3160" y="338472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а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800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анит Германия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6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облемные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Города Германии- какие они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Частные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ой город является столицей Герма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ие города являются крупными в Герма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6960" indent="-66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акие достопримечательности есть в этих города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21000"/>
          </a:bodyPr>
          <a:p>
            <a:pPr marL="72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Цел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Вызвать интерес к изучению иностранного язы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учить поиску информации в Интерн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Познакомить учащихся со страной изучаемого язы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Изучить историю стра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Представить на рассмотрение крупные гор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-1166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Выделить знаменитые достопримечательности</a:t>
            </a:r>
            <a:r>
              <a:rPr b="0" lang="en-US" sz="800" spc="-1" strike="noStrike">
                <a:solidFill>
                  <a:srgbClr val="ffff00"/>
                </a:solidFill>
                <a:latin typeface="Tahoma"/>
              </a:rPr>
              <a:t> 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емы для самостоятельной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История Гер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толица Германии- Берли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рупные города Гер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Достопримечательности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Результаты представления рабо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Докла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Рефер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Бук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Веб-сай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08</cp:lastModifiedBy>
  <dcterms:modified xsi:type="dcterms:W3CDTF">2009-10-23T10:54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